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8EAB-CF89-499A-9480-70FB168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4CF7-CE15-435E-B1D8-A2BE8BA9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EE0E-FAFA-423F-92BE-1799C5DF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951A-E33D-4F15-BE44-6EDA8970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7D46-E58B-4F1C-A88E-259D1682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ADD1-D4DB-41FB-BE43-509823E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6DD-30D4-4771-AC57-CCABF2D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AA4-C36B-4501-A4AE-AC452F2D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73AE-8727-481C-AAAC-94AB1F7A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BEC7-C51F-49D3-A09A-B84DD41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5B5-F34E-477F-8E79-5E16650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BA5D-B44A-4F95-9EF2-4A45AF0A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190D-2843-44B5-AAF3-C613A81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E65-6E59-4CD0-B55B-8992859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313-6430-4BA5-B5EB-BB433338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4AD9-8DBA-4254-9236-516A7E67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4187-0EB3-453E-B4A2-9B69F02E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9362-905F-45C2-8951-A693295F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0FB9-9141-494C-BDA7-FDC73BD7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A91D-0004-4366-B924-8AB5CCA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68CD-B615-4907-82D9-584809C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E2C9-832C-4D3F-A627-3A5F391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A076-9993-402B-B5EC-ADBDD2A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D4D9F-86C2-4605-A81F-4EE8429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2E55-1348-41DB-925A-5F6890C192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937-05B4-4023-A57C-5FCAD5F91A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951200" y="383040"/>
            <a:ext cx="820872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65040" y="237960"/>
            <a:ext cx="1162080" cy="1868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023200" y="3024360"/>
            <a:ext cx="44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38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Неесенцијалне аминокиселин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08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Неесенцијалне аминокиселин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су оне које се синтетишу у наше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глицин, аланин, серин, глутамат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аспартат, пролин, хидроксипролин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66ff33"/>
                </a:solidFill>
                <a:latin typeface="Arial"/>
                <a:ea typeface="Arial"/>
              </a:rPr>
              <a:t>       </a:t>
            </a:r>
            <a:r>
              <a:rPr b="0" i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тирозин,  цистин и  цистеи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212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удбина слободних аминокиселина у крв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Content Placeholder 3" descr="D:\OSS NOVI PROGRAM\SLIKE\1. aminokiseline iz krvi.jpg"/>
          <p:cNvPicPr/>
          <p:nvPr/>
        </p:nvPicPr>
        <p:blipFill>
          <a:blip r:embed="rId1"/>
          <a:srcRect l="11481" t="7633" r="9162" b="7611"/>
          <a:stretch/>
        </p:blipFill>
        <p:spPr>
          <a:xfrm>
            <a:off x="222120" y="1380960"/>
            <a:ext cx="9715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ептидна ве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34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имери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им вез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а вез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ормира 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амино-групе јед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лне групе друг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з издвај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лекул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65080" y="5238720"/>
            <a:ext cx="8429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1760" y="9525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1000"/>
          </a:bodyPr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везивање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ептидном везом гради се дипепт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р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трипептид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ећег број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ептидним везама настај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и и 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ма саставу протеи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т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изграђени само од А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ложени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оред протеинск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адрж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протеинск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ли простетич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груп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Сложеним протеинима припадају: гликопротеин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липопротеини, фосфопротеини, нуклеопротеин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16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ромопрот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Content Placeholder 3" descr="D:\OSS NOVI PROGRAM\SLIKE\7. struktura proteina.jpg"/>
          <p:cNvPicPr/>
          <p:nvPr/>
        </p:nvPicPr>
        <p:blipFill>
          <a:blip r:embed="rId1"/>
          <a:srcRect l="15040" t="15664" r="13534" b="7225"/>
          <a:stretch/>
        </p:blipFill>
        <p:spPr>
          <a:xfrm>
            <a:off x="293760" y="1380960"/>
            <a:ext cx="95011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1760" y="16668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број и редосле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олип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птид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абилизована пептид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ундарна структу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α-хеликс, β-набране структу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умич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о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α-хеликс има облик спирале, чија је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билизована водоничним везама измеђ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-H  и C=O група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дног полипеп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ц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212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на организација проте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36320" y="1738440"/>
            <a:ext cx="9429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рција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просторни распоред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обуларни или фибриларни обл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он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хидрофоб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Van der Valsov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улфидних в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тернерна струк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везивањем два или 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наца нековалентним  интермолекулс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за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емоглоб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е протеин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376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пр. α-кератин, еластин, колаге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иокатализато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енз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тор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инсулин, глукагон), транспор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албумини, глобулини, хемоглоб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шти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антител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уферс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лог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ређивањ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отеина крв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ома важ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баланс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атолошк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т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гностички и прогностич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казатељ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1760" y="15238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авремене аналитичке мето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дентификују око 300 различитих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огу би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структурни елементи ћелија или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растворени у интрацел.или екстрацелуларној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се разликују 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саставу, структури, функцији, расподел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 , као и конц. у тел.течностим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дрављу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телесних течнос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0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лаб. испитивања најприступачнији су проте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цереброспин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мнионск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еритонеалне, плеуралне те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аливе и фе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960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протеина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340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аз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ажу пептидну ве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ендопептида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син, трипсин, химотрипсин и еласт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егзо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рбоксипептид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пептид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јетр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66ff33"/>
                </a:solidFill>
                <a:latin typeface="Arial"/>
                <a:ea typeface="Arial"/>
              </a:rPr>
              <a:t>(*осим имуноглобулина</a:t>
            </a:r>
            <a:r>
              <a:rPr b="0" lang="sr-RS" sz="3200" spc="-1" strike="noStrike">
                <a:solidFill>
                  <a:srgbClr val="66ff33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, 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плазми  око  65-85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60-80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различит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улог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ње колоидно осмотског P плазм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на , пуферска , одбрамбе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утритивна  и улога у коаг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123840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Одржање колоидно осмотског притиск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лоидно осмотски притисак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е супротставља се хидростатс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у крви који би довео до изласк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интраваскуларног прос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 тај начин одржава се стална запре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у циркул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  <a:ea typeface="Arial"/>
              </a:rPr>
              <a:t>Албумин главни носилац колоидно осмотског притиска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Транспо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аболити, хормони, лекови и јони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ују се путем крви везани 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е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 транспор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сне киселине, билирубин, неке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уги протеини транспорт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вожђе (трансферин), кортизол, тирокс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е, липосол.витамине, леко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1760" y="152388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Заштитна функ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имуноглобулини су антитела ко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езбеђују одбрану организма од инфек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истем комплемента се састоји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их компонен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ћина фактора коагулације су протеинск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р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акутне фазе - протективне ф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синтеза убрзана у инфламаторним реакцијам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 - улог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376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уферска улога</a:t>
            </a:r>
            <a:r>
              <a:rPr b="0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ини имају улогу у одржању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физиолошком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рви, они су негатив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електрисани и могу да везују водоников ј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 крвне плазм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2120" y="1595520"/>
            <a:ext cx="9786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а укупних проте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упак за раздвајање плазма протеина 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у нето наелектрисањ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аснива се на способности кретања раствор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плазме у одговарајућем пуферу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тицајем електр.пољ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различитих физичко-хемијских ос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ују се и по електроф. покретљ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лектрофореза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плазме даје следеће категорије проте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бум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γ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глобулини и фибрино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за серу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исте категорије без фибрин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неких патолошких стања долази до поремећаја односа између појединих плазма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лектрофоретски профил – олакшава дијагн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мањена конц. протеина у плазми (Хипопротеинемиј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508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а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а синт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вољно уношење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у варењу и апсорп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ољење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ури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преко ГИТ тра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проте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а концентрација проте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у услови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ехидратаци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уготрајног повраћ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ре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зној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93760" y="12384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вантитативно најзначајнији протеин плазм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(55-65%) (концентрација око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45g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с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лог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ржавање колоидно-осмотског (онкотског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тиска плаз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нспортна (билирубин, масне кис., тирок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ијодтиронин, кортизол, алдостерон, мног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, калциј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р ендоген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Calibri"/>
              </a:rPr>
              <a:t>Протеолитички ензи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Content Placeholder 3" descr="D:\OSS NOVI PROGRAM\SLIKE\5. proteolitički enzimi.jpg"/>
          <p:cNvPicPr/>
          <p:nvPr/>
        </p:nvPicPr>
        <p:blipFill>
          <a:blip r:embed="rId1"/>
          <a:srcRect l="10190" t="18321" r="9793" b="16377"/>
          <a:stretch/>
        </p:blipFill>
        <p:spPr>
          <a:xfrm>
            <a:off x="579600" y="19526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лбу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6320" y="152388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 албумина у плазми зависи од уношења АК 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њено одређивање може бити парамет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роцену нутритивног стат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мене конц. албум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тичу на однос слободног и везаног обл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ганда које транспорт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албумина утиче на метаболизам билирубина,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a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их кис., дејство хормона и ле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 – праћена појавом едема (отока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2120" y="1738440"/>
          <a:ext cx="9651960" cy="5680080"/>
        </p:xfrm>
        <a:graphic>
          <a:graphicData uri="http://schemas.openxmlformats.org/drawingml/2006/table">
            <a:tbl>
              <a:tblPr/>
              <a:tblGrid>
                <a:gridCol w="4826160"/>
                <a:gridCol w="4825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sr-RS" sz="2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тањ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синтез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бољења јет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апсорп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Малнутри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Убрзан катаболиз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Оштећење тки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нфлама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убитак проте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тски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фропатија 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iabetesu,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истемском лупус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Ентеропат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ешке опеко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1edf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оремећај дистрибуц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a886e0"/>
                      </a:solidFill>
                    </a:lnL>
                    <a:lnR>
                      <a:noFill/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Ascites (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излазак из интраваскуларног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ростора  у перитонеалну течно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a886e0"/>
                      </a:solidFill>
                    </a:lnR>
                    <a:lnT w="5760">
                      <a:solidFill>
                        <a:srgbClr val="a886e0"/>
                      </a:solidFill>
                    </a:lnT>
                    <a:lnB w="5760">
                      <a:solidFill>
                        <a:srgbClr val="a886e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ералбумин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а у дехидрата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 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176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електрофор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тс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β-γ регио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рмал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ациј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и  2 до 4 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ибриноген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рудница, у току менстру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блажих болести јет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високе концентр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акутних бактеријских инфекција (нпр. пнеумококних пнеумонија), сепси, реуматкој грозници и нефроз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актанти акутне фа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1760" y="1309680"/>
            <a:ext cx="9937800" cy="56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 односу на “понашање”  у акутним стањ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акон операција, инфаркта миокарда.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лазма протеини се могу поделити 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итивне и нега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и реактантни акутне ф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лазма протеини чија се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но ↑ у овим патолошким стањ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Ц-реактивни протеин,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антитрипси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– кисели гликопротеин, хаптоглоб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фибриноген, церулоплазм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960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1760" y="13809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тише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плазми  нормалнa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5 mg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P везује полисахари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тне у многим бактеријама, гљивам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раз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а се комплексира CRP постаје актива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комплемента и иницира опсонизациј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агоцитозу и лизу нападнутих ћел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епознавање, везивање и уклањање токс. супстанци из циркула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Content Placeholder 3" descr="D:\FARMACIJA NOVI PREDMET\crp_mechanism.jpg"/>
          <p:cNvPicPr/>
          <p:nvPr/>
        </p:nvPicPr>
        <p:blipFill>
          <a:blip r:embed="rId1"/>
          <a:stretch/>
        </p:blipFill>
        <p:spPr>
          <a:xfrm>
            <a:off x="365040" y="180972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 – Р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еактивни протеин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CRP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34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начајан пораста CRP-а у плазм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специфича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исутан је у ток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инфаркта миокар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па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оперативних захв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неопластичних пролифер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протеин који се синтетиш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 електрофореграм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дваја се у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- глобулинској фракци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ф-ј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 слободног хемоглобина у плаз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ваки молекул хаптоглобина може да веж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ва молекула хем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је иреверзибилно, настали комле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 уклања из плазме дејством ћелиј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тикулоендотелног систе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аптоглоб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1760" y="123840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0000"/>
          </a:bodyPr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хаптоглобина у плазми индиковано је у случај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а акутне фазе и убрзане хем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-ј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пекот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хаптоглоб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на интраваскуларна хемо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хемолизна анемија, трансфузија крви, мала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4560" indent="-304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елуцу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1760" y="19526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ење проте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започињ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е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ендопептида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аје активацијом неактивног прекурсо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епсиногена под дејство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уд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идролизује пептидне везе  ароматич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АК (фенилаланин и тирозин) са другим 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223040" y="166680"/>
            <a:ext cx="2691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 -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i="1" lang="sr-RS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гликопроте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1760" y="14526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оји се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једног полипеп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ланца и 6 до 7 атома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р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ункције церулоплазмин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зимска активност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ерооксидаз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" </a:t>
            </a: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лизује оксидаци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e(lll)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могућава везивање гвожђа за трансфе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ко 95% укупне количине бакра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адржано је у структури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лује као антиоксида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Церулоплазм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960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с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инфекцијама, малигним болест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ауми, болести ретикулоендотел.си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-је или опструкције жучних пут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 церулоплазм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Wilson-ov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апсорпције, малнутриције, нефр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 </a:t>
            </a:r>
            <a:r>
              <a:rPr b="0" i="1" lang="el-GR" sz="36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- гликопроте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же да веже дв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va Fe(lll)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 у плазми ве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псорбовано 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гестивног тракта и транспортује га до јетр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а које корис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а синтез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оглобина, цитохр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а трансферина у плазми зависи од расположивости гвожђ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недостатку гвожђа концент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ферина у плазми расте због ↑ синт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2120" y="1778040"/>
            <a:ext cx="9715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везивања за рецептор ослобађа с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е преузима ћелија, док се апотрансфер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 поново у плазму где може понов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ши ф-ју транспортног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око 1/3 трансферина засићена је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к је преостала количина слобод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760" y="17384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диференцијалној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g.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немија и праћењ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о је концентрација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ниж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жи је и проценат засићења трансфе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вожђ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о је анемија последица поремећаја уград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Fe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Ер, концентрација транферина је снижена или нормална а степен засићења вис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Трансферин – значај одређив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760" y="130968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0000"/>
          </a:bodyPr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гативни реактант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е код инфламаторних 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лигних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еспецифично снижен к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е, хроничних болести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праћених губитком прот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нефротски 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трансфе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току примене естр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6400" indent="-266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беланчевине које се синтетишу као одгов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присуство антигена (А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ше ф-ју антитела (Ат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безбеђују хуморалну заштиту орган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познајући антиге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ицирајући механизам за њихово униште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212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1760" y="11667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4000"/>
          </a:bodyPr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интеза антите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плазмоцитима који настају трансформациј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 - лимфоцита након стимулације Аг у слез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мфним жлездама, костној срж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лазмоцити секретују А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соко специфич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а да вежу А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 се комплекс Аг-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т – беланчевине из групе глоб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бог ф-је у имунолошком одговору називају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720" indent="-24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932040" y="592200"/>
            <a:ext cx="8718480" cy="65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муноглобул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ма структури и биолошким својств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муноглобулини се сврставају у 5 осно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796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нзими  панкреаса  секретују се из егзокриног панкреаса у црева као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неактивни прекурс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у спадај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трипсиноген, химотрипсиноген,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 и Б и про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еласт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Централни догађај у активацији  панкреасних проензима је </a:t>
            </a:r>
            <a:r>
              <a:rPr b="0" lang="sr-CS" sz="2800" spc="-1" strike="noStrike">
                <a:solidFill>
                  <a:srgbClr val="ffff00"/>
                </a:solidFill>
                <a:latin typeface="Arial"/>
                <a:ea typeface="Arial"/>
              </a:rPr>
              <a:t>активација трипсиногена у трипсин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ејством цревне ентерокиназ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Трипсин делује аутокаталитички на трипсиноген и каталитички на химотрипсиноген и еластазу које преводи у одговарајуће активне облике</a:t>
            </a:r>
            <a:r>
              <a:rPr b="0" lang="sr-C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2120" y="309600"/>
            <a:ext cx="97236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нижење 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3668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стварања имуноглобулин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мфоидни малигнитети,токсичне р-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суфицијенција бубрега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кови: фенитоин, пеницилам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убитак имуноглобулина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утем бубрега (нефротски синдро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ИТ тракта (ентеропат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ко коже (опекот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60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</a:t>
            </a:r>
            <a:r>
              <a:rPr b="0" i="1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нцентрације имуноглоб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36680" y="1452600"/>
            <a:ext cx="10144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фек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жне, цревне, респираторне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ирусне инф-је, маларија –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.бактеријске инф-је – св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утерине инф-је 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ви пупча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утоимуне реак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предомини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ронични активни хепатити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g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лергијске р-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Ig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исуство протеина у урину у количини већој 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50 mg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1,73m</a:t>
            </a:r>
            <a:r>
              <a:rPr b="0" lang="sr-Latn-C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Протеинур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) функционална или асимптома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) органс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тренал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) пара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5222880" y="4167360"/>
            <a:ext cx="4654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7960" y="1809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Гломерулар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оштећења гломеру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&gt;2g</a:t>
            </a:r>
            <a:r>
              <a:rPr b="0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е се протеини велике молекулске ма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овање токсина,  инфек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скуларних 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акутни постстрептококни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гломерулонефрит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нефротски синд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2" descr="http://www.unckidneycenter.org/images/capillary.jpg"/>
          <p:cNvPicPr/>
          <p:nvPr/>
        </p:nvPicPr>
        <p:blipFill>
          <a:blip r:embed="rId1"/>
          <a:stretch/>
        </p:blipFill>
        <p:spPr>
          <a:xfrm>
            <a:off x="6437160" y="237960"/>
            <a:ext cx="3461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9600" y="12384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 u="sng">
                <a:solidFill>
                  <a:srgbClr val="00cc00"/>
                </a:solidFill>
                <a:uFillTx/>
                <a:latin typeface="Arial"/>
                <a:ea typeface="Arial"/>
              </a:rPr>
              <a:t>Тубулар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протеина </a:t>
            </a:r>
            <a:r>
              <a:rPr b="0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1-3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g</a:t>
            </a:r>
            <a:r>
              <a:rPr b="0" lang="sr-Latn-RS" sz="2800" spc="-1" strike="noStrike">
                <a:solidFill>
                  <a:srgbClr val="00cc00"/>
                </a:solidFill>
                <a:latin typeface="Arial"/>
                <a:ea typeface="Arial"/>
              </a:rPr>
              <a:t>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благе до умер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лучују се протеини ниске РМ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-микроглобул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акутне тубуларне некр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хроничног 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пијелонефрити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реналне трансплантац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интоксикације тешким метал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</a:t>
            </a:r>
            <a:r>
              <a:rPr b="0" i="1" lang="sr-Latn-CS" sz="2800" spc="-1" strike="noStrike">
                <a:solidFill>
                  <a:srgbClr val="00cc00"/>
                </a:solidFill>
                <a:latin typeface="Arial"/>
                <a:ea typeface="Arial"/>
              </a:rPr>
              <a:t>Wilsonove</a:t>
            </a: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-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Функционалне протеинур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ртостатска протеи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лагање претераној топлоти/ хла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физичко вежб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рудно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“марш протеинурија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2" descr="http://www.blic.rs/data/images/2011-09-10/174724_vojna-parada-foto-milos-peric-0033_origh.jpg"/>
          <p:cNvPicPr/>
          <p:nvPr/>
        </p:nvPicPr>
        <p:blipFill>
          <a:blip r:embed="rId1"/>
          <a:stretch/>
        </p:blipFill>
        <p:spPr>
          <a:xfrm>
            <a:off x="846000" y="4952880"/>
            <a:ext cx="4233960" cy="2428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grupko.rs/uploaded_pictures/content/ponude/450x320/690-dinara-umesto-2-000-dinara-za-mesec-dana-vezbanja-u-teretani-sa-kardio-programom-sada-je-pravo-vreme-da-se-pokrenete-128.jpg"/>
          <p:cNvPicPr/>
          <p:nvPr/>
        </p:nvPicPr>
        <p:blipFill>
          <a:blip r:embed="rId2"/>
          <a:stretch/>
        </p:blipFill>
        <p:spPr>
          <a:xfrm>
            <a:off x="5722920" y="4952880"/>
            <a:ext cx="34178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07960" y="380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4000"/>
          </a:bodyPr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ре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хипертенз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конгестивно срчано оштећењ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хидрат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Постреналне протеинуриј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Обољења (инфективна или малигн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cc00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мокраћне беш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уретр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оста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1520" indent="-281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Парапротеинурија </a:t>
            </a:r>
            <a:br>
              <a:rPr sz="3600"/>
            </a:br>
            <a:r>
              <a:rPr b="0" i="1" lang="sr-RS" sz="3600" spc="-1" strike="noStrike">
                <a:solidFill>
                  <a:srgbClr val="92d050"/>
                </a:solidFill>
                <a:latin typeface="Arial"/>
                <a:ea typeface="Arial"/>
              </a:rPr>
              <a:t>   - </a:t>
            </a:r>
            <a:r>
              <a:rPr b="1" i="1" lang="sr-RS" sz="3200" spc="-1" strike="noStrike">
                <a:solidFill>
                  <a:srgbClr val="ffff00"/>
                </a:solidFill>
                <a:latin typeface="Garamond"/>
              </a:rPr>
              <a:t>Појава парапротеина у мокраћи</a:t>
            </a:r>
            <a:br>
              <a:rPr sz="36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7960" y="159552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2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грешка у синтези тешких и лаких ланаца имуноглобул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nce-Jone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о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protein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ецифичан нискомолекуларни протеин који се излучује у урину код више од половине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лтиплим мијелом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урину пацијената с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кроглобулинемиј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агулише на Т од 45-60</a:t>
            </a:r>
            <a:r>
              <a:rPr b="0" lang="sr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поново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вара даљим загревањем до кључ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8582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</a:t>
            </a:r>
            <a:r>
              <a:rPr b="0" i="1" lang="sr-RS" sz="3600" spc="-1" strike="noStrike">
                <a:solidFill>
                  <a:srgbClr val="ffcc00"/>
                </a:solidFill>
                <a:latin typeface="Arial"/>
                <a:ea typeface="Arial"/>
              </a:rPr>
              <a:t>лабораторијски тестови за одређивање протеина у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960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литативно одређи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ови са реагенс трак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 са сулфосалицилном кисе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Квантитативно одређивање (24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 h</a:t>
            </a: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 урин</a:t>
            </a:r>
            <a:r>
              <a:rPr b="0" i="1" lang="sr-Latn-RS" sz="3200" spc="-1" strike="noStrike">
                <a:solidFill>
                  <a:srgbClr val="00cc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биурет мет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тода везивања спец. бо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урбидиметриј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00cc00"/>
                </a:solidFill>
                <a:latin typeface="Arial"/>
                <a:ea typeface="Arial"/>
              </a:rPr>
              <a:t>Електрофор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6" descr="http://www.vet.uga.edu/ivcvm/courses/vpat5215/urinary/uremia/images/F06255.jpg"/>
          <p:cNvPicPr/>
          <p:nvPr/>
        </p:nvPicPr>
        <p:blipFill>
          <a:blip r:embed="rId1"/>
          <a:stretch/>
        </p:blipFill>
        <p:spPr>
          <a:xfrm>
            <a:off x="6794640" y="2023920"/>
            <a:ext cx="10000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1760" y="45252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е – доказивање тест тракам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 из урина мењају боју индика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тетрабромфенол плаво) од жуте преко плаво-зелене до плаве, без промене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0000"/>
                </a:solidFill>
                <a:latin typeface="Arial"/>
                <a:ea typeface="Arial"/>
              </a:rPr>
              <a:t>Лажно пози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алкалан урин, контаминација узорка или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осу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хематури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сока релативна густина ур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Лажно негативни резулта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и,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Bence-Jones-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ови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роте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с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ендопептидаза, раскида пептидне ве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базних АК (лизина и аргинин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  делује при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редности од 7,5-9,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мотрипс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скида пептидне везе које гра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оматичн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стаза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ептидне ве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међу неутр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008000" y="380880"/>
          <a:ext cx="8072640" cy="6500880"/>
        </p:xfrm>
        <a:graphic>
          <a:graphicData uri="http://schemas.openxmlformats.org/drawingml/2006/table">
            <a:tbl>
              <a:tblPr/>
              <a:tblGrid>
                <a:gridCol w="2691000"/>
                <a:gridCol w="3128760"/>
                <a:gridCol w="2252880"/>
              </a:tblGrid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SA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зул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замућењ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 арб.је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ближна концентрација протеина у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гатив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ема замуће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lt;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Тр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Једва 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2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Видљиво замућ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без гранул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m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ом без флокул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Замућење са гранулацијама и флокулациј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-5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7ec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Грудва преципитираних проте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&gt;5</a:t>
                      </a:r>
                      <a:r>
                        <a:rPr b="1" lang="sr-Latn-R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cf6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6"/>
          <p:cNvSpPr/>
          <p:nvPr/>
        </p:nvSpPr>
        <p:spPr>
          <a:xfrm>
            <a:off x="2293920" y="697392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абела:Резултати теста са сулфосалицилном кисел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ушкарац старости 44 године, примљен је у болницу  са отоком лица који траје 6-8 недеља уназад. На основу анамнестичких података, лекар сазнаје да је отеченост капака трајала већ недељама и да пацијент од детињства има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тип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Поред отечености лица лекар је приметио и отоке на ногама. Пацијент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акође наводи и да  је имао обострану упалу крајника два месеца пре пријема у болн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3760" y="523800"/>
            <a:ext cx="94298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- Лабораторијски налаз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52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64 - 83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Албумини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)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8 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/L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                35- 52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Холестеро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2,2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       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3,1-5,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ТГЛ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mol/L)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5,5 ↑                     0,1-1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фосфор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,18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↑                   0,8-1,6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(mmol/L)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1,8  ↓                     2,02-2,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ре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(mmol/L)   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22,5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3,0-8,0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Протеинуриј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9,2g /24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Клиренс креатинина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0,5 ml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/sec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1,47-2,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76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1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36680" y="130968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1. Које су улоге протеина крвне плазм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2. Навести узроке хипопороте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3. Објаснити најважније улоге албумин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4. Који су узроци хипоалбуминем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Зашто пацијент има оток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5. Да ли би требало проверити конц.калцијума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у серуму и зашт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6. Протеинурије – дефиниција и подел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7. Који су лабораторијски тестови за одређивање протеина у урин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25 година јавља се лекару због малаксалости,  продуктивног кашља и температуре 39,5</a:t>
            </a:r>
            <a:r>
              <a:rPr b="0" lang="sr-R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која траје два дана уназад. Прегледом на плућима установљен је пооштрен дисајни шум,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RDG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плућа показује промене које иду у прилог обостраној бронхопнеумониј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Лабораторијски налаз: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реф.вред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Леукоцити                                20.06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      (3.70-10.00) x 10</a:t>
            </a:r>
            <a:r>
              <a:rPr b="0" lang="sr-Latn-R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Неутрални гранулоцити%      85.09                  (44.00-72.00)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Arial"/>
                <a:ea typeface="Arial"/>
              </a:rPr>
              <a:t>CRP                                          120                     (0.0-5.0) m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1760" y="38088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c000"/>
                </a:solidFill>
                <a:latin typeface="Arial"/>
                <a:ea typeface="Arial"/>
              </a:rPr>
              <a:t>Приказ случаја 2 –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3760" y="18097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а су реактанти акутне фаз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вести позитивне реактанте акутне ф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а је улога Ц-реактивног протеина у организ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им запаљенских процеса у којим још стањима Ц-реактивни протеин показује пораст концентрације у серу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је значај пораста неутрофилних гранулоцита код нашег пацијент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6080" indent="-3160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Варење протеина у </a:t>
            </a:r>
            <a:r>
              <a:rPr b="0" i="1" lang="sr-CS" sz="3600" spc="-1" strike="noStrike">
                <a:solidFill>
                  <a:srgbClr val="ffff00"/>
                </a:solidFill>
                <a:latin typeface="Arial"/>
              </a:rPr>
              <a:t>танком црев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одваја ароматичне и алифати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(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Ц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арбоксипептидаза Б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ваја баз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терминалног крај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арење протеина наставља се у танком цреву, где се дејством аминопептидаза и дипептидаза дипептиди и трипептиди разлажу на појединачне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504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К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се апсорбују из лумена танког црева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54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екундарним N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-зависним активним тран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лакшаном дифузиј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мембрани ентероцита постоји више система за транспорт АК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неутралних аминокисе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базних аминокиселина и цисти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киселих аминокиселина и амид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цикличних аминокиселина, иминокиселина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ц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сенцијалне аминокисели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7384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рочито је значајна апсорпција есенцијал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тј. оних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је се не синтетишу у наш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рганизм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 их уносимо искључив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а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сенцијалне аминокиселин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триптофан, фенилаланин, лизин, треон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алин, метионин, леуцин, изолеуц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ргинин и хистид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3:29Z</dcterms:modified>
  <cp:revision>267</cp:revision>
  <dc:subject/>
  <dc:title>PowerPoint Presentation</dc:title>
</cp:coreProperties>
</file>